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063-EDD4-45E5-8953-3F49391C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3B6-83F3-4E19-BA76-68B0A655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E58-3481-4C7A-A143-0619EBA1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8AF-A1F6-4DFE-9158-A0109BC5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C0D-6166-4D30-B01E-E866DD6C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159-A3DC-4A49-929D-B8E09D7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D60-D295-45C5-9A03-B124244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135-2717-4C11-8625-23C2AA68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672-C4E8-45F7-AEF5-E16BC94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6C4-6C82-4DDB-ABD4-D922A70F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5D3-73B5-42AB-A8A8-C9CEE40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B83-3073-4745-98A1-48D42E8C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1D20-05DD-40DC-9B4C-85809C1A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22160"/>
            <a:ext cx="89265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ages of Adaptation for Immigrant and Refugee Children and their Famil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Through Tran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4290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rumental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eating into firs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ing that one must give up original culture in order to fit into 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a part of the mainstream culture while still holding onto customs and values of the origin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rative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referred to as the “mainstream phase” whereby based on their decisions in the previous phase, students experience eithe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ltural Sp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a split between home life [first culture] and school (all aspects of out-of-home) life [second culture]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ccult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an acceptance and integration of parts of both cultures into his/her life and indicative of future academic success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rative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of embarrassment and lack of acceptance of first culture in the mai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ctural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epest level of the adaptation experience where an individual grows truly comfortable in the second culture while maintaining a deep and integrated connection with the first culture; typically doesn’t happen in the firs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ctors in Accul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ived Social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ultural Attit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sm vs Collecti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CULTURAL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9335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ronological Stages of a Refugee’s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Asy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tle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t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fferent Experiences of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jo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69800"/>
            <a:ext cx="82296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tages of Adaptation for Immigrant and Refugee Children and their Famil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liminary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/Anticipation/Migration – Sometimes referred to as the “Honeymoon Stage” or “Initial Stage” including a time of euphoria --- if considered a “good” move, a child may be fascinated with everything and excited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, displays a desire to 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ectator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when the concept of “change” overcomes the concept of newness and the reality of the situation sinks in.  Sometimes referred to as the “Silent Period” in language acquisiti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ful, lon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creasing Particip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referred to as the “Uprooting Stage”.  Survival instincts are awakened and the clash of the two cultures becomes apparent in all its complexity.  “One step forward, two steps b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 of varying emotions in combination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e Shock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overload/change in its most profound context resulting from a loss of all familiar signs, symbols, and cues of the original culture.  Creating a mistrust and fear of the new situation that may not have existed previously; most difficult time, when patience and tolerance are very important and impact all future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e Shock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ed, frustrated, insecure, withdrawn, hostile; criticizes everything; academic problems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rumental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referred to as the “adaptation period” when based on a variety of factors students make three choices about their future adaptation as a way of dealing with the emotional, educational and social issues in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--- Fight ---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0:55:55Z</dcterms:created>
  <dc:creator>John</dc:creator>
  <dc:description/>
  <dc:language>en-US</dc:language>
  <cp:lastModifiedBy>John</cp:lastModifiedBy>
  <dcterms:modified xsi:type="dcterms:W3CDTF">2007-07-23T19:36:41Z</dcterms:modified>
  <cp:revision>19</cp:revision>
  <dc:subject/>
  <dc:title>American Diversity and Its Impact on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29244054</vt:r8>
  </property>
  <property fmtid="{D5CDD505-2E9C-101B-9397-08002B2CF9AE}" pid="3" name="_AuthorEmail">
    <vt:lpwstr>jkibler@thecenterweb.org</vt:lpwstr>
  </property>
  <property fmtid="{D5CDD505-2E9C-101B-9397-08002B2CF9AE}" pid="4" name="_AuthorEmailDisplayName">
    <vt:lpwstr>John Kibler</vt:lpwstr>
  </property>
  <property fmtid="{D5CDD505-2E9C-101B-9397-08002B2CF9AE}" pid="5" name="_EmailSubject">
    <vt:lpwstr>immigration workshop</vt:lpwstr>
  </property>
</Properties>
</file>